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E7B4-EAD7-4459-8832-56118E40B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sentences tell me it is something that can be eaten.  I know that it is a breakfast food because Ryan said it was morning.  I also know that it goes in a bowl.  What do you think it 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most logical guess would be a type of cerea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sentences tell me that Ryan was going to school and he almost missed his tramzam.  What do you think it 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most logical guess would be a school bu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sentences tell me that it is something Ryan needed at school.  I also know that it is ok if he brings it tomorrow. What do you think it 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most logical guess would be Ryan’s homework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sentences tell me that a person can act this way and that Ms. Jutzi is being kind and allowing Ryan to bring his homework the next day. What do you think it i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e1c11"/>
                </a:solidFill>
                <a:latin typeface="Calibri"/>
              </a:rPr>
              <a:t>The most logical guess would be friendly or understanding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28A7-081B-4172-A521-A61D2F8F3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9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sentences tell me it is a game Ryan and his friends play against each other and that points can be scored.  What do you think it 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most logical guess would be a sport such as basketball or socc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sentences tell me that Ryan’s team scored 7 points while the other team scored less points.  What do you think it 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most logical guess would be that it means winn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87D7-D775-49E1-9FCD-5BB89F69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sentences tell me that Ryan’s dad said he could go there and when he gets there they will swim and play in the sand.  Ryan also mentions not wanting a sunburn.  What do you think it 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f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215"/>
                </a:solidFill>
                <a:latin typeface="Calibri"/>
              </a:rPr>
              <a:t>The most logical guess would be a lake or a be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162E-49EB-4ADA-9A82-14DDF473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4D1-C789-4FFE-924C-2601031A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D14-4A93-4F65-A309-653B730B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3A8-7DCB-4214-A899-ADBFDA85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897-4033-4674-8067-BC83EEE6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4B4E-9EA9-4D16-8500-CDDADB22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B397-EA3E-46BC-9D33-EE02CCF5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4DA3-962C-4E03-8025-904873A9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DD18-3380-43BB-B5BE-DF14213E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8CDB-523E-4867-AE7F-C71B692E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FA55-8261-44CC-817C-E9DBAFDA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2039-2D17-42A3-A315-0203D426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880-6F1F-4466-80E3-5AC5EAF3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45B2-2A02-49DC-8A84-D9FFC14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9CA9-18D9-452C-9149-C01C91AC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C995-9BFA-46CC-BAA4-0A45D6F4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13F4-57A5-4132-9805-D9EC1947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7559-8F45-4CC6-8D56-D332CF44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AA68B-D468-4A98-BADC-B04ACE91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76B87-FB1C-4C54-8750-96A02BCB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CF914-C65C-4BA0-903E-0A96D903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763B9-C10B-4BD4-9E17-D11889EA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EC834-7786-41B5-88DC-89CD8B9E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145-2FD1-4BC6-8D58-42DF1DD3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36090-220A-41AB-90C0-AB509195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B8AB7-5469-493E-B0E1-F63E4CE3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7A7AB-7FE1-4047-8F05-A5CE3AE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94BA1-EBA5-40C4-A0A2-F9730E43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2EC6D-15FD-4B2A-B61D-4B049476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D918D-E9B4-4409-9C44-BBD324D9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B525E-0FE4-47EB-B434-57443074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828B-3C6C-4328-8C8D-DACF8565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4D87-4A16-418D-B505-7C5EFA83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79B21-F240-4EE0-9B33-D132B0E3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E2B-9122-4F66-9223-4F9D0356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2E21-13F8-45F1-ABB8-4706EF6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DA25-143E-47B6-8E28-E73D2F4E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215EC-DE74-4BD6-9DE1-6645330A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93B10-1F37-489E-8620-5518067C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965C-5D48-4214-A785-D57AD92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6FC51-AB24-4F42-BD24-EFE07D4A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A254-FD9F-4F4E-BC52-CDE480A3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6EE6D-47F6-49A2-ADBD-178E13FF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93A31-D76C-4B50-9F7D-4F129855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DF45D-E8E0-4921-91B8-1D4BD068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A50-8B92-4824-9320-E509D75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621C6-5031-496F-9C34-7989CEC7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98DA6-2790-4273-9B28-67616E56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834F4-7053-4C4E-BC96-7157C298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EC2ED-4AD6-4047-9440-8647FF1D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51BF7-D97A-4697-A87C-2B030F09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2065A-0515-4C20-9E37-CBBFE217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F5138-35B3-42CD-B83E-6E1E4EE3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89001-E153-436C-8852-2A4A7EA4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125E7-179D-47C7-871D-187C164D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9E3CE-F6C8-4B5D-B24B-F13E0623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945-DB2B-4218-AAA9-88E76AE7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DADA9-039D-44D1-98DF-7910F187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AE9F8-7036-4278-9F0F-F6F715F0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E20E5-498D-431A-8E7A-2D2DC3BC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49267-AB16-444B-8602-F1FD6A96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E95898-652D-4205-B90C-0C724843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0C54F-A8B7-4D16-8B6C-47DEC89C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18E47-FB12-4459-8F0F-BBDD2852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34C10-94DB-4614-821C-EB890B3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4656C-DF9D-4122-BFCA-4A0A75FA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3FB9F-5334-43DD-9FBC-D3A493A3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94C-D476-468D-A0F4-03EF5D53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D66AF-5FD3-4C18-A199-478772A2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1A74E-5CCF-4DD1-BCDA-12D4E257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0AC910-E0E3-46EC-AEA4-26BCF08E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DB370-2E83-41E2-AB78-B3C47B4C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1CBF8-D85D-43DD-8A93-ECC7CAF8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15B7A-5C93-47B5-8B1C-FB65AE42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1C7FB-A4DA-44CE-A891-7F8AFC68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ECCDE-89EF-4CD9-B280-F44954AD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FEF5D-0FC8-40C1-8448-1D93C23E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CEA96-42FF-41F9-B3DA-AFA80454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2F7-582F-4A9B-A14E-2772DAD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3BCD34-4086-4F5B-BFA8-2EE7339A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EC8D0-8866-4420-815F-10FA41AA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FAD1B-F3EB-4C06-A519-CA2E946B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5D77E-E296-458D-B4AA-1F58B3E1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F61A9-4413-444D-959B-1C8BD98A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ABA-E756-4BC0-8C0D-5C65385D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5755-65D8-4EB5-B795-9793550619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0ED5-E0AF-405D-9EDC-CB963F8C65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F408-0C4E-4A31-AAE9-A3731D19A9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3221-2806-44D3-B726-5D47BACE79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0474-320C-434E-BCB2-2DC9E2A9FA5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F08-F140-48A8-85A3-92BAF8985E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Franklin Gothic 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16F5-824B-442F-92E7-F42EE2A579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399ff"/>
                </a:solidFill>
                <a:latin typeface="Georgia"/>
              </a:rPr>
              <a:t>CONTEXT CLUES:  </a:t>
            </a:r>
            <a:br>
              <a:rPr sz="4900"/>
            </a:br>
            <a:r>
              <a:rPr b="1" lang="en-US" sz="4900" spc="-1" strike="noStrike">
                <a:solidFill>
                  <a:srgbClr val="3399ff"/>
                </a:solidFill>
                <a:latin typeface="Georgia"/>
              </a:rPr>
              <a:t>YOU BE THE DETECTIVE </a:t>
            </a:r>
            <a:br>
              <a:rPr sz="4900"/>
            </a:br>
            <a:br>
              <a:rPr sz="4900"/>
            </a:br>
            <a:br>
              <a:rPr sz="5900"/>
            </a:br>
            <a:endParaRPr b="0" lang="en-US" sz="4900" spc="-1" strike="noStrike">
              <a:solidFill>
                <a:srgbClr val="4e5b6f"/>
              </a:solidFill>
              <a:latin typeface="Franklin Gothic Book"/>
            </a:endParaRPr>
          </a:p>
        </p:txBody>
      </p:sp>
      <p:pic>
        <p:nvPicPr>
          <p:cNvPr id="359" name="Picture 5" descr="j0282788"/>
          <p:cNvPicPr/>
          <p:nvPr/>
        </p:nvPicPr>
        <p:blipFill>
          <a:blip r:embed="rId1"/>
          <a:stretch/>
        </p:blipFill>
        <p:spPr>
          <a:xfrm rot="20541000">
            <a:off x="3395520" y="2072880"/>
            <a:ext cx="3497400" cy="3338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7162920" y="32004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IT IS YOUR TURN TO BE A DETECTIVE AND  FOLLOW THE CLUES!</a:t>
            </a:r>
            <a:br>
              <a:rPr sz="2700"/>
            </a:b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51051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5b6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j0349657"/>
          <p:cNvPicPr/>
          <p:nvPr/>
        </p:nvPicPr>
        <p:blipFill>
          <a:blip r:embed="rId1"/>
          <a:stretch/>
        </p:blipFill>
        <p:spPr>
          <a:xfrm rot="3834000">
            <a:off x="4273920" y="3802680"/>
            <a:ext cx="577800" cy="1049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j0349657"/>
          <p:cNvPicPr/>
          <p:nvPr/>
        </p:nvPicPr>
        <p:blipFill>
          <a:blip r:embed="rId2"/>
          <a:stretch/>
        </p:blipFill>
        <p:spPr>
          <a:xfrm rot="3834000">
            <a:off x="5645520" y="3116880"/>
            <a:ext cx="577800" cy="1049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j0349657"/>
          <p:cNvPicPr/>
          <p:nvPr/>
        </p:nvPicPr>
        <p:blipFill>
          <a:blip r:embed="rId3"/>
          <a:stretch/>
        </p:blipFill>
        <p:spPr>
          <a:xfrm rot="3834000">
            <a:off x="6941520" y="2355120"/>
            <a:ext cx="577800" cy="1049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j0282788"/>
          <p:cNvPicPr/>
          <p:nvPr/>
        </p:nvPicPr>
        <p:blipFill>
          <a:blip r:embed="rId4"/>
          <a:stretch/>
        </p:blipFill>
        <p:spPr>
          <a:xfrm rot="20541000">
            <a:off x="934920" y="2309400"/>
            <a:ext cx="2438640" cy="2328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2f"/>
                </a:solidFill>
                <a:latin typeface="Franklin Gothic Book"/>
              </a:rPr>
              <a:t>CONTEXT CLUES PRACTICE ACTIVITY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5228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Your friend Ryan has moved to a new country and is learning a n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language. Read what he wrote in his diary and see if you can figure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the meaning to the underlined wo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Dear Di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I overslept this morning. I had to eat my bowl of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poof-poo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very quickly, and I almost missed the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tramzam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. When I got to schoo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I realized I had forgotten my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zilgping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 . Luckily, Ms. Jutzi is 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zoosh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, and told me I could bring it tomo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After school, some friends and I played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plingming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. It’s a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game I am learning. We scored 7 points and they only score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points, so we were the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zoiters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Dad says that next weekend we’re going to the </a:t>
            </a:r>
            <a:r>
              <a:rPr b="1" lang="en-US" sz="1800" spc="-1" strike="noStrike" u="sng">
                <a:solidFill>
                  <a:srgbClr val="00192f"/>
                </a:solidFill>
                <a:uFillTx/>
                <a:latin typeface="Arial"/>
              </a:rPr>
              <a:t>fladder</a:t>
            </a: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 .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can’t wait! I love to swim and play in the sand. I hope I don’t g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sunburn th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Until tomorro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2f"/>
                </a:solidFill>
                <a:latin typeface="Arial"/>
              </a:rPr>
              <a:t>R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92f"/>
                </a:solidFill>
                <a:latin typeface="Franklin Gothic Book"/>
              </a:rPr>
              <a:t>DIRECTIONS</a:t>
            </a:r>
            <a:endParaRPr b="0" lang="en-US" sz="48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192f"/>
                </a:solidFill>
                <a:latin typeface="Arial"/>
              </a:rPr>
              <a:t>It’s time for some detective work.  Take each word from Ryan’s diary that is written in his new language and use the context clues in the text to figure them ou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j0282788"/>
          <p:cNvPicPr/>
          <p:nvPr/>
        </p:nvPicPr>
        <p:blipFill>
          <a:blip r:embed="rId1"/>
          <a:stretch/>
        </p:blipFill>
        <p:spPr>
          <a:xfrm rot="20541000">
            <a:off x="4943520" y="3895200"/>
            <a:ext cx="24382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What could the word </a:t>
            </a:r>
            <a:r>
              <a:rPr b="1" lang="en-US" sz="2400" spc="-1" strike="noStrike" u="sng">
                <a:solidFill>
                  <a:srgbClr val="00192f"/>
                </a:solidFill>
                <a:uFillTx/>
                <a:latin typeface="Arial"/>
              </a:rPr>
              <a:t>poof-poofs</a:t>
            </a: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799"/>
              </a:spcBef>
              <a:buClr>
                <a:srgbClr val="eb8803"/>
              </a:buClr>
              <a:buSzPct val="80000"/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What could the word </a:t>
            </a:r>
            <a:r>
              <a:rPr b="1" lang="en-US" sz="2400" spc="-1" strike="noStrike" u="sng">
                <a:solidFill>
                  <a:srgbClr val="00192f"/>
                </a:solidFill>
                <a:uFillTx/>
                <a:latin typeface="Arial"/>
              </a:rPr>
              <a:t>tramzam</a:t>
            </a: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What could the word </a:t>
            </a:r>
            <a:r>
              <a:rPr b="1" lang="en-US" sz="2400" spc="-1" strike="noStrike" u="sng">
                <a:solidFill>
                  <a:srgbClr val="00192f"/>
                </a:solidFill>
                <a:uFillTx/>
                <a:latin typeface="Arial"/>
              </a:rPr>
              <a:t>zilgping</a:t>
            </a: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What could the word </a:t>
            </a:r>
            <a:r>
              <a:rPr b="1" lang="en-US" sz="2400" spc="-1" strike="noStrike" u="sng">
                <a:solidFill>
                  <a:srgbClr val="00192f"/>
                </a:solidFill>
                <a:uFillTx/>
                <a:latin typeface="Arial"/>
              </a:rPr>
              <a:t>zoosh</a:t>
            </a:r>
            <a:r>
              <a:rPr b="0" lang="en-US" sz="2400" spc="-1" strike="noStrike">
                <a:solidFill>
                  <a:srgbClr val="00192f"/>
                </a:solidFill>
                <a:latin typeface="Arial"/>
              </a:rPr>
              <a:t> me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0d17"/>
                </a:solidFill>
                <a:latin typeface="Arial"/>
              </a:rPr>
              <a:t>What could the word </a:t>
            </a:r>
            <a:r>
              <a:rPr b="1" lang="en-US" sz="4400" spc="-1" strike="noStrike" u="sng">
                <a:solidFill>
                  <a:srgbClr val="090d17"/>
                </a:solidFill>
                <a:uFillTx/>
                <a:latin typeface="Arial"/>
              </a:rPr>
              <a:t>plingming</a:t>
            </a:r>
            <a:r>
              <a:rPr b="0" lang="en-US" sz="4400" spc="-1" strike="noStrike">
                <a:solidFill>
                  <a:srgbClr val="090d17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0d17"/>
                </a:solidFill>
                <a:latin typeface="Arial"/>
              </a:rPr>
              <a:t>What could the word </a:t>
            </a:r>
            <a:r>
              <a:rPr b="1" lang="en-US" sz="4400" spc="-1" strike="noStrike" u="sng">
                <a:solidFill>
                  <a:srgbClr val="090d17"/>
                </a:solidFill>
                <a:uFillTx/>
                <a:latin typeface="Arial"/>
              </a:rPr>
              <a:t>zoiters</a:t>
            </a:r>
            <a:r>
              <a:rPr b="0" lang="en-US" sz="4400" spc="-1" strike="noStrike">
                <a:solidFill>
                  <a:srgbClr val="090d17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088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d17"/>
                </a:solidFill>
                <a:latin typeface="Arial"/>
              </a:rPr>
              <a:t>What could the word </a:t>
            </a:r>
            <a:r>
              <a:rPr b="1" lang="en-US" sz="4000" spc="-1" strike="noStrike" u="sng">
                <a:solidFill>
                  <a:srgbClr val="090d17"/>
                </a:solidFill>
                <a:uFillTx/>
                <a:latin typeface="Arial"/>
              </a:rPr>
              <a:t>fladder</a:t>
            </a:r>
            <a:r>
              <a:rPr b="0" lang="en-US" sz="4000" spc="-1" strike="noStrike">
                <a:solidFill>
                  <a:srgbClr val="090d17"/>
                </a:solidFill>
                <a:latin typeface="Arial"/>
              </a:rPr>
              <a:t>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0d17"/>
                </a:solidFill>
                <a:latin typeface="Times New Roman"/>
                <a:ea typeface="Times New Roman"/>
              </a:rPr>
              <a:t>CONTEXT CLUES POSTTEST</a:t>
            </a:r>
            <a:endParaRPr b="0" lang="en-US" sz="4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56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5f7791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90d17"/>
                </a:solidFill>
                <a:latin typeface="Arial"/>
              </a:rPr>
              <a:t>http://www.shsu.edu/~txcae/Powerpoints/prepostest/cluesdefinepostest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533160"/>
            <a:ext cx="8077320" cy="59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0d17"/>
                </a:solidFill>
                <a:latin typeface="Arial"/>
              </a:rPr>
              <a:t>Context Clues Pre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90d17"/>
                </a:solidFill>
                <a:latin typeface="Arial"/>
              </a:rPr>
              <a:t>http://www.shsu.edu/~txcae/Powerpoints/prepostest/contextclues1pretest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Franklin Gothic Book"/>
              </a:rPr>
              <a:t>CONTEXT CLUES – WHAT ARE THEY?</a:t>
            </a:r>
            <a:endParaRPr b="0" lang="en-US" sz="30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28240" y="4568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ntext clues are bits of information from the text that, when combined with prior knowledge, allow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to decide the meaning of unknown word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in the story or article you a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s a reader you must act similar to a detective and put together clues from sentences surrounding an unknown word in order to make an intelligent “guess” as to what the definition of a word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98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 CLUES – HOW DO THEY HELP YOU READ NEW WORDS?</a:t>
            </a:r>
            <a:endParaRPr b="0" lang="en-US" sz="36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08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book writers and authors include words or phrases to help  readers understand the meaning of a new or difficult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words or phrases are built into the sentences around the new or difficult wor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becoming more aware of the words around a difficult word, readers can make logical guesses about the meanings of many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TILL WONDERING ABOUT CONTEXT CLU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ONTEXT CLUES</a:t>
            </a:r>
            <a:endParaRPr b="0" lang="en-US" sz="43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s use many different types of context clues when writing texts.  Three of these types a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definition context c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onym context c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onym context c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5228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definition context clues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 - don’t touch that dictiona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finition of the word you don’t know is r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n the text!"    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any </a:t>
            </a:r>
            <a:r>
              <a:rPr b="0" lang="en-US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theo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what made the Ice Ages happ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 “ideas” tells us that </a:t>
            </a:r>
            <a:r>
              <a:rPr b="0" i="1" lang="en-US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theori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different thoughts people have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 time, </a:t>
            </a:r>
            <a:r>
              <a:rPr b="1" lang="en-US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glaciers</a:t>
            </a:r>
            <a:r>
              <a:rPr b="0" lang="en-US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wly moving rivers of 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over many parts of the Eart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s “slowly moving rivers of i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 us w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lac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nonym context clu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words around a difficult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mean the same or nearly the same as the wor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eeing the picture of the starving children, we fel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s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pity for their suffer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 “pity” tells us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ss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to have understanding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monish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r students and they knew they were in hot water for their ac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s “in hot water” tell us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monish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cautioned or scol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onym context clu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words around a difficult word that mean the opposite or nearly the opposite as the wor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e w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ucta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ake the job of captain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.  He was afraid that the time it would 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hurt his grades.  On the other hand, Billy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ger for the chance to be the team cap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entence the words “on the other hand”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ger” tell us that Billy feels the opposite of J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ucta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ns uncertain or cauti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10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1000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1000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" dur="1000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4:53:04Z</dcterms:created>
  <dc:creator>Chris Garner</dc:creator>
  <dc:description/>
  <dc:language>en-US</dc:language>
  <cp:lastModifiedBy>MASONJ</cp:lastModifiedBy>
  <dcterms:modified xsi:type="dcterms:W3CDTF">2012-02-27T18:42:24Z</dcterms:modified>
  <cp:revision>37</cp:revision>
  <dc:subject/>
  <dc:title>Context Clues</dc:title>
</cp:coreProperties>
</file>